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B421-BD0A-4E08-840B-05B9ECC88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30E5-FD83-445F-8EE0-2EFEFD845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A52E-4B72-4083-A9D6-00157234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CF92-DEED-4735-8161-8C2ABB2E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4ACA-9074-4E17-A79F-06A885FB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7494-CC7A-4BD0-842E-54A6B023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6DD6B-9B72-4580-AF79-CF1B8A01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F403-CAAE-4812-B241-B86A05E3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E8E33-1802-4D95-83EE-C3C76530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4D85-E2D8-43D0-A65B-BF02544F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19973-BD94-457C-BFA8-2586EB0A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DE12-B77B-4370-B771-C536D179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CFF4F-D09A-473A-BB2E-FB66F587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C97D-3820-4644-AC6A-F8850A06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B29-5FA7-4B50-A1DC-64D8DCE8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5F2-170A-4F32-A6DA-BF2F3F9A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2D8-93EC-4E2D-A51F-40BC172D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E42-A25D-4A5A-8273-B2C27CAD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A1B-009C-4CBD-A1D7-A089FAC2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14B-7034-4557-AD8F-9B3952C3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457-186C-4468-B81E-EA520BD9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6AD-7322-42BE-A405-D95FB8A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FD5-900B-49C8-B417-A9FC21D1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88C-DCEB-4F6E-8A7F-28FD398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B96-5D23-49E2-B97C-3EA4B3CB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E23-1CA0-4306-9863-8E11FF72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6328-F225-4532-91E5-39220D00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D9D4-79F3-4FA0-8016-0AC41490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74E8-6ACA-4F55-8BF6-1CE4B7BE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60EC-6A7F-470B-A60F-6E048B80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D940-1D00-46E7-8403-9275D3F1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11DB-950F-4EA9-8AD7-8960AB4F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B3C8-B101-4EBD-B342-D1D437B9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A3DA-5B8F-48C0-8BB4-BDD9E44C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C1C2-4702-486E-99FD-0294ED24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989F-9AF5-4FF4-868C-4E1C3C13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739E-DF85-40EF-8C12-358AC279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EF14-FDF4-4BB8-8300-531CA2E0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1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2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66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0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1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922F-D647-41DB-BF68-224F56C99D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A206-8D2C-4577-BF78-4AC0922FFB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8027-49B2-4FB0-9BC0-05FBBD3801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Proposal Development: 2014/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4575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M. Bekun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f2936"/>
                </a:solidFill>
                <a:latin typeface="Calibri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638680" y="220968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Calibri"/>
              </a:rPr>
              <a:t>2012 Planning meeting outputs: Integrated Research as AR’s operation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64771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23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24"/>
          <p:cNvSpPr/>
          <p:nvPr/>
        </p:nvSpPr>
        <p:spPr>
          <a:xfrm>
            <a:off x="65530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25"/>
          <p:cNvSpPr/>
          <p:nvPr/>
        </p:nvSpPr>
        <p:spPr>
          <a:xfrm>
            <a:off x="7315200" y="45720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ight Brace 27"/>
          <p:cNvSpPr/>
          <p:nvPr/>
        </p:nvSpPr>
        <p:spPr>
          <a:xfrm>
            <a:off x="8763120" y="3124080"/>
            <a:ext cx="380880" cy="15242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4240"/>
              <a:gd name="textAreaBottom" fmla="*/ 15145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Oval 29" descr=""/>
          <p:cNvPicPr/>
          <p:nvPr/>
        </p:nvPicPr>
        <p:blipFill>
          <a:blip r:embed="rId1"/>
          <a:stretch/>
        </p:blipFill>
        <p:spPr>
          <a:xfrm>
            <a:off x="-549360" y="2992320"/>
            <a:ext cx="6589800" cy="1940040"/>
          </a:xfrm>
          <a:prstGeom prst="rect">
            <a:avLst/>
          </a:prstGeom>
          <a:ln w="0">
            <a:noFill/>
          </a:ln>
        </p:spPr>
      </p:pic>
      <p:sp>
        <p:nvSpPr>
          <p:cNvPr id="581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25"/>
          <p:cNvSpPr/>
          <p:nvPr/>
        </p:nvSpPr>
        <p:spPr>
          <a:xfrm>
            <a:off x="6019920" y="553392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4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5" name="Line 25"/>
          <p:cNvSpPr/>
          <p:nvPr/>
        </p:nvSpPr>
        <p:spPr>
          <a:xfrm>
            <a:off x="6400800" y="4191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692360" y="2349360"/>
          <a:ext cx="6842160" cy="3670560"/>
        </p:xfrm>
        <a:graphic>
          <a:graphicData uri="http://schemas.openxmlformats.org/drawingml/2006/table">
            <a:tbl>
              <a:tblPr/>
              <a:tblGrid>
                <a:gridCol w="664920"/>
                <a:gridCol w="601920"/>
                <a:gridCol w="1393560"/>
                <a:gridCol w="196920"/>
                <a:gridCol w="1324080"/>
                <a:gridCol w="1330200"/>
                <a:gridCol w="1330560"/>
              </a:tblGrid>
              <a:tr h="648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ross-cutting studies (impact, markets, nutrition, gender, policy…) and actions (scaling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; C+S; 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, L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aseline, FSA, Discipline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Low hanging fruits, Team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AutoShape 1"/>
          <p:cNvSpPr/>
          <p:nvPr/>
        </p:nvSpPr>
        <p:spPr>
          <a:xfrm flipH="1">
            <a:off x="611280" y="2637000"/>
            <a:ext cx="1008000" cy="2736720"/>
          </a:xfrm>
          <a:prstGeom prst="upArrow">
            <a:avLst>
              <a:gd name="adj1" fmla="val 50000"/>
              <a:gd name="adj2" fmla="val 75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oward full 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468360" y="155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07f09"/>
                </a:solidFill>
                <a:latin typeface="Calibri"/>
              </a:rPr>
              <a:t>Conceptual progress towards sustainable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1"/>
          <p:cNvSpPr/>
          <p:nvPr/>
        </p:nvSpPr>
        <p:spPr>
          <a:xfrm>
            <a:off x="228600" y="1371600"/>
            <a:ext cx="81532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categories – Work packages (Tanz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p and crop variety divers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crops – sorghum, millet, pigeon p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ge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t and disease – Maize lethal necrosis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il fertility – fertilizers, manures, leguminous crops, multi-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llage – Tied-ridging;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estock – feed, fodders, grazing, manur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t-harvest – handling, storage and aflatox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 – mechanizatio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s – cost benefit analysis, partial budget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mer adoption – voucher program ,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eam proposal develop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ification – Where you are along the impact traj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to mature the technologies (higher level integration) …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ncip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data generated expressed in context (cross cutting disciplin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 to the log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 details (activity/institutional alloc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rcRect l="10763" t="12500" r="11347" b="0"/>
          <a:stretch/>
        </p:blipFill>
        <p:spPr>
          <a:xfrm>
            <a:off x="71280" y="1130400"/>
            <a:ext cx="9068040" cy="5727600"/>
          </a:xfrm>
          <a:prstGeom prst="rect">
            <a:avLst/>
          </a:prstGeom>
          <a:ln w="0">
            <a:noFill/>
          </a:ln>
        </p:spPr>
      </p:pic>
      <p:sp>
        <p:nvSpPr>
          <p:cNvPr id="594" name="Left Brace 2"/>
          <p:cNvSpPr/>
          <p:nvPr/>
        </p:nvSpPr>
        <p:spPr>
          <a:xfrm rot="3384000">
            <a:off x="2832840" y="3350520"/>
            <a:ext cx="712800" cy="2362320"/>
          </a:xfrm>
          <a:custGeom>
            <a:avLst/>
            <a:gdLst>
              <a:gd name="textAreaLeft" fmla="*/ 455400 w 712800"/>
              <a:gd name="textAreaRight" fmla="*/ 713160 w 712800"/>
              <a:gd name="textAreaTop" fmla="*/ 18360 h 2362320"/>
              <a:gd name="textAreaBottom" fmla="*/ 23439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2"/>
                  <a:pt x="10800" y="543"/>
                </a:cubicBezTo>
                <a:lnTo>
                  <a:pt x="10800" y="10466"/>
                </a:lnTo>
                <a:cubicBezTo>
                  <a:pt x="10800" y="10738"/>
                  <a:pt x="5400" y="11009"/>
                  <a:pt x="0" y="11009"/>
                </a:cubicBezTo>
                <a:cubicBezTo>
                  <a:pt x="5400" y="11009"/>
                  <a:pt x="10800" y="11281"/>
                  <a:pt x="10800" y="11552"/>
                </a:cubicBezTo>
                <a:lnTo>
                  <a:pt x="10800" y="21057"/>
                </a:lnTo>
                <a:cubicBezTo>
                  <a:pt x="10800" y="2132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1676520" y="1749600"/>
            <a:ext cx="440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rica RISING Years 3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lementation with higher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earch refinement &amp; expansion (e.g., IPM, socio-economic studi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fer of research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ientific support to FtF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6" name="Straight Arrow Connector 8"/>
          <p:cNvCxnSpPr>
            <a:endCxn id="594" idx="1"/>
          </p:cNvCxnSpPr>
          <p:nvPr/>
        </p:nvCxnSpPr>
        <p:spPr>
          <a:xfrm flipH="1">
            <a:off x="2972880" y="3735360"/>
            <a:ext cx="75600" cy="511920"/>
          </a:xfrm>
          <a:prstGeom prst="straightConnector1">
            <a:avLst/>
          </a:prstGeom>
          <a:ln w="381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7:40:18Z</dcterms:created>
  <dc:creator>Bekunda</dc:creator>
  <dc:description/>
  <dc:language>en-US</dc:language>
  <cp:lastModifiedBy>Bekunda</cp:lastModifiedBy>
  <cp:lastPrinted>2011-10-06T11:45:23Z</cp:lastPrinted>
  <dcterms:modified xsi:type="dcterms:W3CDTF">2014-09-10T02:41:26Z</dcterms:modified>
  <cp:revision>5</cp:revision>
  <dc:subject/>
  <dc:title>Slide 1</dc:title>
</cp:coreProperties>
</file>